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24.gif" ContentType="image/gif"/>
  <Override PartName="/ppt/media/image1.gif" ContentType="image/gif"/>
  <Override PartName="/ppt/media/image18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951E-0348-4915-ABC2-8894D90D6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D463-FA9C-4A70-9CA0-3AA7365F3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BEB2-DC6E-4943-925C-D1CC8F757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8AA3-AA8E-4601-B0F9-A15A63DD0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EAF4-235C-4664-8D5A-270DF7C51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3541-B94A-4D0B-B74A-C881D3F40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3304-4F37-433E-8DDD-217E13DC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E052-98AC-4AE6-88D7-78733DEB8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01AD-12A2-4135-84D9-2FEB9D0A2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82D6-EB5E-40A1-BFAB-451096B6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D2FA-4D47-4AB6-9940-723B2A2C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C205-76BF-4C0F-A23C-8D66D848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8C05D-CADD-415E-8C00-7718D8F00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hyperlink" Target="http://www.abc.net.au/reslib/200904/r357662_1646878.jpg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www.paulwhitephotos.com.au/album/MurrayRiver/slides/Picture%20013.html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photos.igougo.com/pictures-photos-l4314-s2-p21292-Black_Swans.html" TargetMode="External"/><Relationship Id="rId3" Type="http://schemas.openxmlformats.org/officeDocument/2006/relationships/image" Target="../media/image10.jpeg"/><Relationship Id="rId4" Type="http://schemas.openxmlformats.org/officeDocument/2006/relationships/hyperlink" Target="http://photos.igougo.com/pictures-photos-l4314-s2-p21294-Flying_Pelican.html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dhills.com.au/tourism/imagegallery/large/pic55.html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paulwhitephotos.com.au/album/MurrayRiver/slides/MRV%20(32).html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www.paulwhitephotos.com.au/album/MurrayRiver/slides/PWP%20(24).html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photos.igougo.com/pictures-photos-l4314-s2-p21279-Kangroo_and_Joey.html" TargetMode="External"/><Relationship Id="rId6" Type="http://schemas.openxmlformats.org/officeDocument/2006/relationships/image" Target="../media/image15.jpeg"/><Relationship Id="rId7" Type="http://schemas.openxmlformats.org/officeDocument/2006/relationships/hyperlink" Target="http://www.paulwhitephotos.com.au/album/MurrayRiver/slides/MRV%20(25).html" TargetMode="External"/><Relationship Id="rId8" Type="http://schemas.openxmlformats.org/officeDocument/2006/relationships/image" Target="../media/image16.jpeg"/><Relationship Id="rId9" Type="http://schemas.openxmlformats.org/officeDocument/2006/relationships/hyperlink" Target="http://www.paulwhitephotos.com.au/album/MurrayRiver/slides/MRV%20(31).html" TargetMode="External"/><Relationship Id="rId10" Type="http://schemas.openxmlformats.org/officeDocument/2006/relationships/image" Target="../media/image17.jpeg"/><Relationship Id="rId11" Type="http://schemas.openxmlformats.org/officeDocument/2006/relationships/hyperlink" Target="http://www.paulwhitephotos.com.au/album/MurrayRiver/slides/MRV%20(29).html" TargetMode="External"/><Relationship Id="rId12" Type="http://schemas.openxmlformats.org/officeDocument/2006/relationships/image" Target="../media/image18.jpeg"/><Relationship Id="rId13" Type="http://schemas.openxmlformats.org/officeDocument/2006/relationships/hyperlink" Target="http://photos.igougo.com/pictures-photos-l4314-s2-p21281-The_Unforgettable_7.html" TargetMode="External"/><Relationship Id="rId14" Type="http://schemas.openxmlformats.org/officeDocument/2006/relationships/image" Target="../media/image19.jpeg"/><Relationship Id="rId15" Type="http://schemas.openxmlformats.org/officeDocument/2006/relationships/hyperlink" Target="http://www.paulwhitephotos.com.au/album/MurrayRiver/slides/Picture%20022.html" TargetMode="External"/><Relationship Id="rId16" Type="http://schemas.openxmlformats.org/officeDocument/2006/relationships/image" Target="../media/image20.jpeg"/><Relationship Id="rId17" Type="http://schemas.openxmlformats.org/officeDocument/2006/relationships/hyperlink" Target="http://www.paulwhitephotos.com.au/album/MurrayRiver/slides/MRV.html" TargetMode="External"/><Relationship Id="rId18" Type="http://schemas.openxmlformats.org/officeDocument/2006/relationships/image" Target="../media/image21.jpeg"/><Relationship Id="rId19" Type="http://schemas.openxmlformats.org/officeDocument/2006/relationships/hyperlink" Target="http://www.adhills.com.au/tourism/imagegallery/large/pic6.html" TargetMode="External"/><Relationship Id="rId20" Type="http://schemas.openxmlformats.org/officeDocument/2006/relationships/image" Target="../media/image22.jpeg"/><Relationship Id="rId21" Type="http://schemas.openxmlformats.org/officeDocument/2006/relationships/hyperlink" Target="http://www.adhills.com.au/tourism/imagegallery/large/pic56.html" TargetMode="External"/><Relationship Id="rId22" Type="http://schemas.openxmlformats.org/officeDocument/2006/relationships/image" Target="../media/image23.jpeg"/><Relationship Id="rId23" Type="http://schemas.openxmlformats.org/officeDocument/2006/relationships/image" Target="../media/image24.gif"/><Relationship Id="rId2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cc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Generate Your Own Glitter Graphics at GlitterYourWay.com"/>
          <p:cNvPicPr/>
          <p:nvPr/>
        </p:nvPicPr>
        <p:blipFill>
          <a:blip r:embed="rId1"/>
          <a:stretch/>
        </p:blipFill>
        <p:spPr>
          <a:xfrm>
            <a:off x="900000" y="189000"/>
            <a:ext cx="7921800" cy="1584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Murray River"/>
          <p:cNvPicPr/>
          <p:nvPr/>
        </p:nvPicPr>
        <p:blipFill>
          <a:blip r:embed="rId2"/>
          <a:stretch/>
        </p:blipFill>
        <p:spPr>
          <a:xfrm>
            <a:off x="1547640" y="2060640"/>
            <a:ext cx="6516720" cy="43527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55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inity (high levels of sal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t of the native Flora and Fau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ue-green alg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en Fish (Car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 water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116000" y="1052640"/>
            <a:ext cx="6762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Problems Faced By the Murray River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8" name="" descr="Algae stretches along the Murray River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76720" y="3860640"/>
            <a:ext cx="3959280" cy="2592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4360" y="5157720"/>
            <a:ext cx="4176720" cy="1465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urrent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mount of salt in the Murray River is destroying the the native plants and animals in the Murra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sired Out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reduce the level of salt in the Murray Riv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posed Actions and Guid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inimize water us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 salinity levels ris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042920" y="549360"/>
            <a:ext cx="7488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Salinity and The Murra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219640" y="5013360"/>
            <a:ext cx="2735280" cy="1655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11280" y="1557360"/>
            <a:ext cx="2016000" cy="1025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116000" y="5734080"/>
            <a:ext cx="1943280" cy="100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d6009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urrent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last 50 years, populations of native fish species in the Murray River have suffered and is in danger of extin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e to the following Proble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or water Qu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ction of damn, weirs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stocking of introduced (ali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nough food to be sha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no plants for the anim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eat  because the plants ca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 in the Mur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556000" y="333360"/>
            <a:ext cx="3887640" cy="11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Faun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076720" y="2997360"/>
            <a:ext cx="3529080" cy="3695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Black Swan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04000" y="404640"/>
            <a:ext cx="2087640" cy="1295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Flying Pelican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0920" y="333360"/>
            <a:ext cx="1979640" cy="1224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ount of salt in the Murray river is way too high. The salt absorbs all the water from the plants leaving the plant unable to grow, as a result the Murray is left desol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ping and associated so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k ero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ance of reed banks to provi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to the 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read or weeds and willow tre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ing over native vege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556000" y="333360"/>
            <a:ext cx="4176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Flora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6000" y="3500280"/>
            <a:ext cx="3166920" cy="30956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3f8"/>
            </a:gs>
            <a:gs pos="100000">
              <a:srgbClr val="8989f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4360" y="2133720"/>
            <a:ext cx="3529080" cy="3024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65800"/>
            <a:ext cx="4172040" cy="23922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Kangroo and Joey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975280" y="4842000"/>
            <a:ext cx="3168720" cy="2016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708360" y="5013360"/>
            <a:ext cx="2592360" cy="1844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630840" y="0"/>
            <a:ext cx="2513160" cy="2952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0" y="0"/>
            <a:ext cx="4032360" cy="1944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The Unforgettable 7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348000" y="0"/>
            <a:ext cx="3457440" cy="2565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6948360" y="2852640"/>
            <a:ext cx="2195640" cy="2232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0" y="1268280"/>
            <a:ext cx="3960720" cy="2303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1763640" y="2997360"/>
            <a:ext cx="2808360" cy="1871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0" y="3213000"/>
            <a:ext cx="2340000" cy="1656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Generate Your Own Glitter Graphics at GlitterYourWay.com"/>
          <p:cNvPicPr/>
          <p:nvPr/>
        </p:nvPicPr>
        <p:blipFill>
          <a:blip r:embed="rId23"/>
          <a:stretch/>
        </p:blipFill>
        <p:spPr>
          <a:xfrm>
            <a:off x="539640" y="2852640"/>
            <a:ext cx="8426520" cy="10908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23:15:17Z</dcterms:created>
  <dc:creator>Primary School</dc:creator>
  <dc:description/>
  <dc:language>en-US</dc:language>
  <cp:lastModifiedBy>Primary School</cp:lastModifiedBy>
  <dcterms:modified xsi:type="dcterms:W3CDTF">2009-05-13T02:44:34Z</dcterms:modified>
  <cp:revision>5</cp:revision>
  <dc:subject/>
  <dc:title>Slide 1</dc:title>
</cp:coreProperties>
</file>